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5ED-C185-4061-A264-45A437AD451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beidsei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E51-BA3D-492F-BDF3-444F9E3FDD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mit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13B4-322B-4BF8-B223-D75F9EF00FC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nenn = Stangenk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A = Anwendungsfaktor zur Berücksichtigung stoßartiger Belastung (zwischen 1,0 fü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und über 2,25 für starke stoßartige Belas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σbzul = zulässige Biegespannung, typ. 0,3 Rm bei ruhender, 0,2 Rm bei schwellender, 0,15 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wechselnder Bela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 = Einspannfaktor – abhängig vom Einbaufall (Werte in Klammern für Gleitverbindun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6 (1,9) Einbaufall 1 (Bolzen lose in Stange und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4) Einbaufall 2 (Bolzen mit Übermaßpassung in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2) Einbaufall 3 (Bolzen mit Übermaßpassung in der St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8F8-38B9-4C4C-8C8E-8E79F74126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s = Querschnittsfläche des Bolz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7FA-E866-4FB5-9123-EBAE1F540F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Passgenauigke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wenn die Verbindung öfters gelöst werden s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 gleicht Abnutzung oder Lochaufweitung 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meist als Passstifte, aber auch als Verbindungs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freiben der kegeligen Bohrung ist erforderlich, daher relativ teuer in der Herstel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Nicht rüttelf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stifte werden in ungehärtetem Zustand eingesetz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Gewinde zum leichteren Lö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AE0-7519-4808-B439-E3A55599270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s ungehärtetem Stahl und aus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muss aufgerieben werden - &gt; te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hochbeanspruchte Teile durchgehärtete oder einsatzgehärtete 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Zylinderstifte mit Innengewinde, wenn Stift nicht herausgeschlagen werden k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bflachung oder Längsrille dient zum Abfließen von Luft oder Ö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chtung auf Schwächung der Welle durch Bohr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255-0038-44E8-8EC2-84642FFFCFF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3 Kerbwulstpaare am Umf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einfach herstellbar (kein Aufreib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in Einpressen nur elastische Verformung der Kerbwul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Rüttelfest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hrfach wieder verwend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Sehr wirtschaftlich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als Sicherungsstift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rbnägel für gering beanspruchte 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bstifte i.d.R. aus Stahl oder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rte der Stifte soll größer sein als die der Bau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9CB-8B5F-4BF3-9521-3175CE577D0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ufig angewendet als Gelenkverbind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enger die Passungen, umso genauer die Führ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kann aber auch Gründe für großes Spiel geben, z.B. zur Aufnahme vo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Wärmedehn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oder falls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arke Verschmutz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erwartet werden -&gt; Gelenk bleibt a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 diesen Bedingungen leichtgäng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F29-D51C-4A5F-8FB7-96F8C54C354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ypische Hauptbeanspruc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sch: Biegung  (ETB S.4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leitend (Lager): Flächenpres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Zusätzlich: Schu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E79-F5B4-42D1-99D7-1D9FEEDA877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egebelastung: frei aufli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M S. 2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0012-C5B3-4B0E-9702-0A73011AE7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0ED-23B1-44D5-9C05-08546964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4EB-9925-4019-B7C4-440157D9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AE3-9330-4C1A-B289-4452D1BB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7B5-1464-4C3F-89A4-0BA1AB97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55D-8F0B-4C7B-8EBF-3FE3B525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D47-2037-429E-86C9-123FE54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938B-1338-4F5A-A624-66C3215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757F-5197-49E8-AB95-9C1BAD6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7C3F-4D88-45B2-9046-71B6C40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294D-FD90-4869-936C-BC7DF4E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D22-F424-476F-85F0-68A9126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D39-9A5E-4B60-ADC9-27E9C09E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698-5253-4812-8A8C-479698D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BD5F-8B97-417B-9471-EFDBEE1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EEC-907D-4DD7-8505-0751FA90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551-6067-451E-BE3F-BFAC870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D65-D953-4606-9B3D-F5FCF87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05BAF-A668-4B2C-9F77-8E90FC03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2E996-E598-480E-8B45-580A859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9AC0B-5097-4635-9416-71A7128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68BAA-7D65-4133-87EE-9BE808E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D3EAD-8912-461B-A904-A1D8290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DD9-C670-4FE6-B401-E486960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6ADD5-F591-4F05-999B-8F8CB1EA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D8C54-926B-4AA5-8981-2CF092B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9D739-7F16-4A6A-BACB-E6241C2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7804A-C2B8-4F20-9FBE-11E5DB9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069D-7955-441F-BFD6-7D1AABB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66B6B-BE8A-4318-8744-F4A0F005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D4E7D-9F66-4FF3-A7D5-C4A3E32B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15A81-DD77-4D40-A550-DA7436D9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0E431-B7A6-46EE-AC59-3B92BBD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A794F-A34B-45DB-AAE2-848B9333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43B-28F6-4705-B69B-4EBB0E0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9CF18-DDAA-4697-B92A-158E0B1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DB4E7-0679-45B0-9050-97030F46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66C28-C7D8-4900-8A3D-132CD75C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173E2-5F6F-4180-AF00-5922338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DA917-3692-41EF-AB79-B4B7151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E0CF1-3C8F-4C7D-8EE0-2F1A7F0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99509-642E-4F6A-A6B8-353B6BF5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09049-EF4D-401D-962C-1A0DE432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51D1E-F211-4AC1-897B-0B66D999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03FA0-CB4A-48AC-BCD5-B84AC0CD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7BD-7EAF-4550-86AE-E4C1A55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B8860-0C32-492B-A4B0-52A4D4A0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189E5-B339-41EE-B57B-1D28B5E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5C999-E75C-4EC0-9383-0E4A9A7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C8562-4D33-4A25-BD28-D844446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A2F8E-C79B-4D50-ADBD-C359CDB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E09A1-CAFD-4163-A096-299B4F5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24516-62EE-40B2-A909-2DBA55D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9CF3E-D65B-4807-AEF4-834897B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BF96C-33DD-4F64-872B-6712207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9E42A-356D-4DEE-932A-CECD5D6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95A-6472-40A2-BE13-D31CC3D8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057E4-6B98-4D07-BCAA-11F0715F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BAECB-E794-4854-9E7D-2B44C9DC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BDE4-FB21-4855-983A-9A6F1BA6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B5CD-D596-4994-8E9F-D8DB90D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D796-4741-42AD-B8FE-A4A76E93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A5A1-C5AC-4CFA-AA9D-2B8DD26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94A07-2A4C-496F-B3BD-D201AC1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E650-C1E0-4890-A517-8E5E5BC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EDF1-45CB-44D3-A6E5-6EFA370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E90F-0B8A-4062-9D6F-AA2812A2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8CF-CA66-4C06-9518-31EB00A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D89F0-49AA-4D33-A2D8-768DD3B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98A3-1E59-4BDE-9EBF-3E6F84F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BDFB-E634-4E99-95F0-2DF248A1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20333-E960-404D-AD3E-1F905BB4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07D85-E8FC-468D-B2E1-807746F5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4AEEE-9DE3-445E-866D-E83BE8AD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E85E7-B8E5-4D3B-9D99-5796A66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37C10-2237-4A20-A2CC-A934B8B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43919-82A6-4A2A-88A7-F5AE22BB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6B46E-CC8C-4A6C-8731-853E9F6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C50-C11C-42A5-B56C-E1379CB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7A333-F357-4A6A-AA65-E9DD5F3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0A83A-0F8A-4E6F-A93D-E98767B5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6A6CC-69BC-4951-8531-ED2F9207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7E139-350F-4D84-B26F-FB0D24C7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44F26-6D95-40FC-AB30-2B876CB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40FBD-9CBC-4E50-94F0-C32DD4C6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E73C-1F45-4C10-B57E-4011232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B5A9-1497-424C-BD7E-21B0652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4A00-735D-4031-BC1B-5DB8CD7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05E8-EBB5-43E0-B943-7B158091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AD0-BFFB-40E1-A4CD-C053898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92389-6FE7-4B72-9D01-BAFB705A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7592-B5D7-48AF-A70B-C06D16E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2AD2F-D06E-4D18-98F0-043D9A8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4C6A7-0176-4132-974A-1FEB13F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FA0B-F2B5-434C-B9D0-6A59AF3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1274-D715-4872-9D09-0AD28830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A688-580C-42DF-B8DA-33C37ED4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6BE-69C4-4EC5-B2E9-BBF7E02F75A6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B02-6FC9-491D-B386-9D74E5F92167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A4B-5CC7-454E-A498-A31AF415D770}" type="datetime">
              <a:rPr b="0" lang="de-DE" sz="2000" spc="-1" strike="noStrike">
                <a:solidFill>
                  <a:srgbClr val="ffffff"/>
                </a:solidFill>
                <a:latin typeface="Tw Cen MT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795-37B9-4704-B20B-B97E191E0DDE}" type="slidenum">
              <a:rPr b="1" lang="de-DE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DFA-826C-4D27-8E41-3C21C16C1617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D080-F59E-4A02-8041-7ABA67DCE231}" type="slidenum">
              <a:rPr b="1" lang="de-DE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7757-974A-45F7-8D86-3ECB0B8D03A9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657A-42C4-4045-9B16-47E5220181F7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23B-AD18-48F6-9A45-3787984E8363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9255-F2A9-4805-9493-DE40538A8C45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C2A6-608E-489F-943D-BCA1C9D245AB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01F4-300F-4903-B640-1CAA8E1A87A9}" type="slidenum">
              <a:rPr b="1" lang="de-DE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99A-0842-448E-A7E5-493D11301363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B22-6B2C-4D1B-A922-A2975333C5CD}" type="slidenum">
              <a:rPr b="1" lang="de-DE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2DE-658A-4B76-A43B-0AB962FAD014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1111-21EF-4E68-BA35-EA935E2DFFE2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bddc3"/>
                </a:solidFill>
                <a:latin typeface="Tw Cen MT"/>
              </a:rPr>
              <a:t>BOLZEN- UND STIFTVERBINDUNGE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w Cen MT"/>
              </a:rPr>
              <a:t>Von Susanne Bartel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mit Übermaßpassung 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in der Stange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8" name="Gerade Verbindung 5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6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erade Verbindung 7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8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9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11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Stange mit einer Übermaß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passung und in der Gabel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09" name="Gerade Verbindung 4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Gerade Verbindung 6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Gerade Verbindung 7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Gerade Verbindung 9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Gerade Verbindung 10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Gerade Verbindung 11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s Bolzendurchmess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1611000" cy="94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0" name="Textfeld 8"/>
          <p:cNvSpPr/>
          <p:nvPr/>
        </p:nvSpPr>
        <p:spPr>
          <a:xfrm>
            <a:off x="785880" y="4214880"/>
            <a:ext cx="10000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22" name="Textfeld 10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3"/>
          <a:stretch/>
        </p:blipFill>
        <p:spPr>
          <a:xfrm>
            <a:off x="2786040" y="2143080"/>
            <a:ext cx="1028880" cy="249552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12"/>
          <p:cNvSpPr/>
          <p:nvPr/>
        </p:nvSpPr>
        <p:spPr>
          <a:xfrm>
            <a:off x="3000240" y="4786200"/>
            <a:ext cx="7858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hteck 13"/>
          <p:cNvSpPr/>
          <p:nvPr/>
        </p:nvSpPr>
        <p:spPr>
          <a:xfrm>
            <a:off x="4714920" y="2428920"/>
            <a:ext cx="3643200" cy="92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hteck 14"/>
          <p:cNvSpPr/>
          <p:nvPr/>
        </p:nvSpPr>
        <p:spPr>
          <a:xfrm>
            <a:off x="4714920" y="4500720"/>
            <a:ext cx="1500120" cy="21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hteck 15"/>
          <p:cNvSpPr/>
          <p:nvPr/>
        </p:nvSpPr>
        <p:spPr>
          <a:xfrm>
            <a:off x="4714920" y="4071960"/>
            <a:ext cx="371484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17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r Bolzen lä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2" name="Rechteck 4"/>
          <p:cNvSpPr/>
          <p:nvPr/>
        </p:nvSpPr>
        <p:spPr>
          <a:xfrm>
            <a:off x="4714920" y="3429000"/>
            <a:ext cx="3357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6" descr="617px-Neues_Bild_(2).jpg"/>
          <p:cNvPicPr/>
          <p:nvPr/>
        </p:nvPicPr>
        <p:blipFill>
          <a:blip r:embed="rId2"/>
          <a:stretch/>
        </p:blipFill>
        <p:spPr>
          <a:xfrm>
            <a:off x="714240" y="2357280"/>
            <a:ext cx="2428920" cy="25020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4" name="Textfeld 7"/>
          <p:cNvSpPr/>
          <p:nvPr/>
        </p:nvSpPr>
        <p:spPr>
          <a:xfrm>
            <a:off x="714240" y="5572080"/>
            <a:ext cx="235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l = 2 x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2 x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feld 8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chubspannung in der Nullli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785880" y="3214800"/>
            <a:ext cx="3085920" cy="74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3643560" cy="1071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41" name="Rechteck 7"/>
          <p:cNvSpPr/>
          <p:nvPr/>
        </p:nvSpPr>
        <p:spPr>
          <a:xfrm>
            <a:off x="4714920" y="3500280"/>
            <a:ext cx="3500280" cy="500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feld 8"/>
          <p:cNvSpPr/>
          <p:nvPr/>
        </p:nvSpPr>
        <p:spPr>
          <a:xfrm>
            <a:off x="1785960" y="41432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9"/>
          <p:cNvSpPr/>
          <p:nvPr/>
        </p:nvSpPr>
        <p:spPr>
          <a:xfrm>
            <a:off x="5857920" y="414324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feld 11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mittlere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928800" y="2643120"/>
            <a:ext cx="247644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8" name="Textfeld 6"/>
          <p:cNvSpPr/>
          <p:nvPr/>
        </p:nvSpPr>
        <p:spPr>
          <a:xfrm>
            <a:off x="1571760" y="37148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72040" y="2428920"/>
            <a:ext cx="2857680" cy="14479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0" name="Rechteck 8"/>
          <p:cNvSpPr/>
          <p:nvPr/>
        </p:nvSpPr>
        <p:spPr>
          <a:xfrm>
            <a:off x="5072040" y="2428920"/>
            <a:ext cx="2000160" cy="714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hteck 9"/>
          <p:cNvSpPr/>
          <p:nvPr/>
        </p:nvSpPr>
        <p:spPr>
          <a:xfrm>
            <a:off x="5072040" y="3214800"/>
            <a:ext cx="285768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feld 10"/>
          <p:cNvSpPr/>
          <p:nvPr/>
        </p:nvSpPr>
        <p:spPr>
          <a:xfrm>
            <a:off x="6072120" y="400068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1143000" y="4286160"/>
            <a:ext cx="1928880" cy="1890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4" name="Textfeld 12"/>
          <p:cNvSpPr/>
          <p:nvPr/>
        </p:nvSpPr>
        <p:spPr>
          <a:xfrm>
            <a:off x="1785960" y="6357960"/>
            <a:ext cx="6429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ETB S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feld 13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Stiftverbindung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werden hergestellt, indem in eine durch alle zu verbindenden Teile gehende Aufnahmebohrung ein Stift mit Übermaß eingedrückt wi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e entstehende Verbindung ist form- und kraftschlüssi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500280" y="4572000"/>
            <a:ext cx="1860840" cy="1585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9" name="Textfeld 5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Stif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der Lage (Fixzierung/Zentrieru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gegen verdre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von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von Bolzen und Mutt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Wegbegrenzung von Maschinenteilen (Anschlagstif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2" name="Grafik 4" descr="http://www.einachser.org/schmiedag/Fahrwerk-Dateien/image009.jpg"/>
          <p:cNvPicPr/>
          <p:nvPr/>
        </p:nvPicPr>
        <p:blipFill>
          <a:blip r:embed="rId1"/>
          <a:stretch/>
        </p:blipFill>
        <p:spPr>
          <a:xfrm>
            <a:off x="2714760" y="4357800"/>
            <a:ext cx="3809880" cy="2320920"/>
          </a:xfrm>
          <a:prstGeom prst="rect">
            <a:avLst/>
          </a:prstGeom>
          <a:ln w="0">
            <a:noFill/>
          </a:ln>
        </p:spPr>
      </p:pic>
      <p:sp>
        <p:nvSpPr>
          <p:cNvPr id="463" name="Ellipse 5"/>
          <p:cNvSpPr/>
          <p:nvPr/>
        </p:nvSpPr>
        <p:spPr>
          <a:xfrm>
            <a:off x="3000240" y="5429160"/>
            <a:ext cx="57168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llipse 7"/>
          <p:cNvSpPr/>
          <p:nvPr/>
        </p:nvSpPr>
        <p:spPr>
          <a:xfrm>
            <a:off x="5857920" y="5429160"/>
            <a:ext cx="57132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gel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4071960" cy="390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69" name="Textfeld 5"/>
          <p:cNvSpPr/>
          <p:nvPr/>
        </p:nvSpPr>
        <p:spPr>
          <a:xfrm>
            <a:off x="571680" y="2857680"/>
            <a:ext cx="292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Gewindezapfen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Innengewinde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feld 6"/>
          <p:cNvSpPr/>
          <p:nvPr/>
        </p:nvSpPr>
        <p:spPr>
          <a:xfrm>
            <a:off x="5286240" y="607212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Zylinder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4071960" y="2357280"/>
            <a:ext cx="4572000" cy="28479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75" name="Textfeld 7"/>
          <p:cNvSpPr/>
          <p:nvPr/>
        </p:nvSpPr>
        <p:spPr>
          <a:xfrm>
            <a:off x="214200" y="31431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-d) mit Innengewinde und Abflachung oder Längsrille zur Druckent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e) lösen mit hilfe einer Abziehschra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) lösen mit Hilfe eines Schlaggewich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feld 8"/>
          <p:cNvSpPr/>
          <p:nvPr/>
        </p:nvSpPr>
        <p:spPr>
          <a:xfrm>
            <a:off x="5715000" y="542916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Überbli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satzgebie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or- und Nachtei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mensioni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rb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4345200" cy="23954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81" name="Textfeld 5"/>
          <p:cNvSpPr/>
          <p:nvPr/>
        </p:nvSpPr>
        <p:spPr>
          <a:xfrm>
            <a:off x="500040" y="26431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rbpr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g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 mit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Steck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neb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Halbrund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)   Senk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6"/>
          <p:cNvSpPr/>
          <p:nvPr/>
        </p:nvSpPr>
        <p:spPr>
          <a:xfrm>
            <a:off x="5357880" y="535788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2 Bild 9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Unter einem </a:t>
            </a: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Bolz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versteht man ein Maschinenelement zur gelenkigen Verbindung von Werkstück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können verschraubt oder durch Sicherungsstifte in der Verbindung gehalten wer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000240" y="4286160"/>
            <a:ext cx="2957760" cy="191448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65" name="Textfeld 5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ose und feste Verbind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drehsicherung für Naben/Wel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Gelenkbolz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agegenaue Fixierung von Bautei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für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429000" y="4429080"/>
            <a:ext cx="2357280" cy="2043000"/>
          </a:xfrm>
          <a:prstGeom prst="rect">
            <a:avLst/>
          </a:prstGeom>
          <a:ln w="0">
            <a:noFill/>
          </a:ln>
        </p:spPr>
      </p:pic>
      <p:sp>
        <p:nvSpPr>
          <p:cNvPr id="369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Vorte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s lassen sich ungleiche Werkstoffe leicht verbin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fach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ostengünstig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bindung ist leicht lösb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Nachteile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Faserverlauf wird durch Bohrungen unterbro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rmüdungsrisse können an den Bohrungen auftre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urch nötige Überlappung höheres Gewich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annungen am Bohrloch durch dickere Wandungen ausglei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olzen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928800" y="1603440"/>
            <a:ext cx="5643360" cy="336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78" name="Textfeld 4"/>
          <p:cNvSpPr/>
          <p:nvPr/>
        </p:nvSpPr>
        <p:spPr>
          <a:xfrm>
            <a:off x="1214280" y="52149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 mit Splint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Splintl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Gewindezap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feld 5"/>
          <p:cNvSpPr/>
          <p:nvPr/>
        </p:nvSpPr>
        <p:spPr>
          <a:xfrm>
            <a:off x="6715080" y="307188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 Bild 9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6"/>
          <p:cNvSpPr/>
          <p:nvPr/>
        </p:nvSpPr>
        <p:spPr>
          <a:xfrm>
            <a:off x="1071720" y="1857240"/>
            <a:ext cx="1143000" cy="271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feld 8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eanspruchung der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Bieg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Schu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bsch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 rot="5400000">
            <a:off x="4905720" y="2302560"/>
            <a:ext cx="4162320" cy="36781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85" name="Textfeld 4"/>
          <p:cNvSpPr/>
          <p:nvPr/>
        </p:nvSpPr>
        <p:spPr>
          <a:xfrm>
            <a:off x="6357960" y="6357960"/>
            <a:ext cx="135720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 Bild 9-2 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5148360" y="2060640"/>
            <a:ext cx="36781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und in der Stange m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1" name="Gerade Verbindung 5"/>
          <p:cNvSpPr/>
          <p:nvPr/>
        </p:nvSpPr>
        <p:spPr>
          <a:xfrm>
            <a:off x="4000680" y="457200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Gerade Verbindung 6"/>
          <p:cNvSpPr/>
          <p:nvPr/>
        </p:nvSpPr>
        <p:spPr>
          <a:xfrm>
            <a:off x="4000680" y="500076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feld 7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8:17:41Z</dcterms:created>
  <dc:creator>Susanne</dc:creator>
  <dc:description/>
  <dc:language>en-US</dc:language>
  <cp:lastModifiedBy>Susanne</cp:lastModifiedBy>
  <dcterms:modified xsi:type="dcterms:W3CDTF">2010-08-23T14:05:11Z</dcterms:modified>
  <cp:revision>81</cp:revision>
  <dc:subject/>
  <dc:title>Bolzen- und Stiftverbindungen</dc:title>
</cp:coreProperties>
</file>